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019-3BBD-4285-A526-CE49931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37B-70F6-4EB8-8E96-797638B0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0D0-6DB8-49EF-8877-A4415588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5DF-F2A2-4B6D-A2AD-7D6E190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270-6AB9-41E3-8F02-C60B1EB2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659-7ACB-482B-A821-9C09202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063-A8FD-4631-A2F8-A5C2915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739-6A27-4512-8E99-C46D16D7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54B-2AB3-40CE-949E-4847CAA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F64-28A6-4FF1-9C54-E72E6A9B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ADC-B466-4515-8323-8B3132F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0D5-1D33-4FFC-BB18-CBCF85D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0C2-8A28-4C48-AF37-ACA22B3D3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4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2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ch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di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ufro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two strengths that distinguished Robinson as a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native voice -or- his ironic view of human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ason people of the town look up to C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’s wealthy, clean, slim, quiet, human when he tal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that happened at the end of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ard Co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killed him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ver’s 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live in the medieval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me of “Miniver Cheev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ishing for the impossible leads to failure and mis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nest Heming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most of his stories were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tymology of the word Min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ver Cheev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white fur trim, sometimes ermine, seen on the costumes of royalty in medieval and Renaissance por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character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arold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he doesn’t want a girl 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oesn’t want the work and the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r changes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s Krebs has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e can’t show emotion (can’t l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oesn’t want consequences (wo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ost religion (can’t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nest Heming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r and hunting (fi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elief of the war by the townspeop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it is proven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’s Ho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ey can get women from the area -reality- they aren’t that pre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r is all blood and guts -reality- Krebs has to make up stories to keep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Soldiers can just go back to the way things were -reality- Krebs can’t get his life back on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Prufrock is self consciou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bald spot, skinny arms and legs, lack of communication skills, being too old, being stereotyped/cast out, can’t take back actions and comments, not a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the mermaids not singing to Pruf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can’t even get the lowest of women (the ones who want to kill h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Prufrock compares himself to a cr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keeps reaching trying to grasp something, but ge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lanation of the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loses hope or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interested in Robinson’s writing, who also got him a better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ne that is set from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ve Song of J. Alfred Prufro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is Prufrock’s own 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mother and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ucyn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Shiftlet tells the Lucynell’s about him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a gospel singer, served in the military, seen every foreign land, had “moral intelligence”, worked for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Shiftlet is a hypoc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told the boy not to leave his mother, even though he left his m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young Lucynell leave her m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 left young Lucynell (he’s not one to be telling others not to leave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hadowing of clou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ad p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d things to come (fu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win Arlington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President Theodore Roosev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oint O’Connor is trying to make - the story’s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You Save May Be Your Ow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eople are straying from God and becoming too sel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.S. Eli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of Eliot’s most famous poem, some even considered it a major poem of the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.S. Eli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The Waste L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nnery O’Con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ttractions she focused on in her writings to prove that people were straying from G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nnery O’Con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grotesque and vio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7-02-19T22:18:58Z</dcterms:modified>
  <cp:revision>53</cp:revision>
  <dc:subject/>
  <dc:title>No Slide Title</dc:title>
</cp:coreProperties>
</file>